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000" y="58539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95000" y="911520"/>
            <a:ext cx="4583160" cy="152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284364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95000" y="58539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284364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20448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5946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950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20448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35946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284364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95000" y="374616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95000" y="911520"/>
            <a:ext cx="4583160" cy="152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284364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95000" y="58539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284364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0448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5946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50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0448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35946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20448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5946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950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20448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35946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95000" y="374616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95000" y="911520"/>
            <a:ext cx="4583160" cy="152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284364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5000" y="58539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284364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0448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35946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950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0448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35946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95000" y="374616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95000" y="911520"/>
            <a:ext cx="4583160" cy="152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95000" y="374616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284364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000" y="58539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284364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20448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35946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950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20448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35946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95000" y="374616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95000" y="911520"/>
            <a:ext cx="4583160" cy="152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284364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95000" y="58539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284364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20448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35946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950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20448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35946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95000" y="374616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95000" y="911520"/>
            <a:ext cx="4583160" cy="152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284364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95000" y="58539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284364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20448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5946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950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20448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35946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95000" y="374616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95000" y="911520"/>
            <a:ext cx="4583160" cy="152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284364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5000" y="58539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284364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95000" y="911520"/>
            <a:ext cx="4583160" cy="152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20448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35946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950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20448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35946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95000" y="374616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95000" y="911520"/>
            <a:ext cx="4583160" cy="152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284364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95000" y="58539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284364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20448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35946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950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20448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35946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95000" y="374616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95000" y="911520"/>
            <a:ext cx="4583160" cy="152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5000" y="374616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84364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84364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95000" y="58539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284364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20448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35946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950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20448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35946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95000" y="374616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95000" y="911520"/>
            <a:ext cx="4583160" cy="152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284364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95000" y="58539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284364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20448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35946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950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20448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35946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95000" y="374616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5000" y="58539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95000" y="911520"/>
            <a:ext cx="4583160" cy="152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284364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95000" y="58539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284364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20448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35946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950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20448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35946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284364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95000" y="374616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95000" y="911520"/>
            <a:ext cx="4583160" cy="152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284364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95000" y="58539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284364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0448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5946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50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20448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35946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20448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35946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950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20448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35946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495000" y="374616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495000" y="911520"/>
            <a:ext cx="4583160" cy="152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284364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95000" y="58539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284364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20448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35946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950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20448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35946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495000" y="374616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495000" y="911520"/>
            <a:ext cx="4583160" cy="152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95000" y="374616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284364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95000" y="58539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284364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20448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35946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950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20448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35946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495000" y="374616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495000" y="911520"/>
            <a:ext cx="4583160" cy="152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284364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95000" y="58539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284364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20448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35946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950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20448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35946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95000" y="374616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95000" y="911520"/>
            <a:ext cx="4583160" cy="152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84364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95000" y="58539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84364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20448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35946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950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20448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35946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495000" y="374616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495000" y="911520"/>
            <a:ext cx="4583160" cy="152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284364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95000" y="58539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284364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95000" y="911520"/>
            <a:ext cx="4583160" cy="152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20448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35946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950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20448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35946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84364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5000" y="58539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284364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0448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5946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950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0448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35946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95000" y="374616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95000" y="911520"/>
            <a:ext cx="4583160" cy="152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84364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5000" y="58539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284364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0448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5946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950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0448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35946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95000" y="374616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95000" y="911520"/>
            <a:ext cx="4583160" cy="152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284364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5000" y="58539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284364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5000" y="911520"/>
            <a:ext cx="4583160" cy="152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20448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5946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950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20448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35946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95000" y="374616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95000" y="911520"/>
            <a:ext cx="4583160" cy="152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284364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5000" y="58539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284364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20448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5946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50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20448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35946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95000" y="374616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95000" y="911520"/>
            <a:ext cx="4583160" cy="152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4364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284364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5000" y="58539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284364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0448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5946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50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20448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35946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95000" y="374616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95000" y="911520"/>
            <a:ext cx="4583160" cy="152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284364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95000" y="5853960"/>
            <a:ext cx="458316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2843640" y="37461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9500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2843640" y="5853960"/>
            <a:ext cx="223632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20448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594600" y="37461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950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20448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3594600" y="5853960"/>
            <a:ext cx="1475640" cy="192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95000" y="374616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95000" y="374616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600" y="93600"/>
            <a:ext cx="914076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600" y="1782360"/>
            <a:ext cx="9140760" cy="58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96960" indent="-4446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39680" indent="-4428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382760" indent="-4446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738440" indent="-4446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081160" indent="-4446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081160" indent="-4446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081160" indent="-4446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90720" y="142560"/>
            <a:ext cx="8177040" cy="2025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070320" y="-1557720"/>
            <a:ext cx="3097080" cy="11899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523800" indent="-3855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41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209600" indent="-3855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565280" indent="-3859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908000" indent="-3841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908000" indent="-384120">
              <a:spcBef>
                <a:spcPts val="29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908000" indent="-384120">
              <a:spcBef>
                <a:spcPts val="29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90720" y="142560"/>
            <a:ext cx="8177040" cy="2025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90360" y="-93600"/>
            <a:ext cx="3935160" cy="897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523800" indent="-3855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41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209600" indent="-3855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565280" indent="-3859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908000" indent="-3841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908000" indent="-384120">
              <a:spcBef>
                <a:spcPts val="29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908000" indent="-384120">
              <a:spcBef>
                <a:spcPts val="29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720" y="2324160"/>
            <a:ext cx="8177040" cy="2970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90720" y="142560"/>
            <a:ext cx="8177040" cy="2025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90720" y="1247760"/>
            <a:ext cx="8177040" cy="629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582480" indent="-44424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5560" indent="-44280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68280" indent="-44424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23960" indent="-44460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67040" indent="-44316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67040" indent="-44316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67040" indent="-44316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90720" y="2324160"/>
            <a:ext cx="8177040" cy="2970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body"/>
          </p:nvPr>
        </p:nvSpPr>
        <p:spPr>
          <a:xfrm>
            <a:off x="990720" y="-301680"/>
            <a:ext cx="8177040" cy="822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582480" indent="-4442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5560" indent="-44280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68280" indent="-4442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23960" indent="-44460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67040" indent="-44316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67040" indent="-44316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67040" indent="-44316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90720" y="5407200"/>
            <a:ext cx="817704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90720" y="5407200"/>
            <a:ext cx="817704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body"/>
          </p:nvPr>
        </p:nvSpPr>
        <p:spPr>
          <a:xfrm>
            <a:off x="495000" y="383508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1000"/>
          </a:bodyPr>
          <a:p>
            <a:pPr marL="3121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1" marL="312120" indent="-3121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2" marL="312120" indent="-3121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3" marL="312120" indent="-3121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4" marL="312120" indent="-3121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5" marL="312120" indent="-3121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6" marL="312120" indent="-3121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title"/>
          </p:nvPr>
        </p:nvSpPr>
        <p:spPr>
          <a:xfrm>
            <a:off x="495000" y="-360"/>
            <a:ext cx="4583160" cy="377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body"/>
          </p:nvPr>
        </p:nvSpPr>
        <p:spPr>
          <a:xfrm>
            <a:off x="495000" y="383508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1000"/>
          </a:bodyPr>
          <a:p>
            <a:pPr marL="3121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1" marL="312120" indent="-3121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2" marL="312120" indent="-3121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3" marL="312120" indent="-3121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4" marL="312120" indent="-3121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5" marL="312120" indent="-3121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6" marL="312120" indent="-3121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title"/>
          </p:nvPr>
        </p:nvSpPr>
        <p:spPr>
          <a:xfrm>
            <a:off x="495000" y="-360"/>
            <a:ext cx="4583160" cy="377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77040" cy="3859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343080" indent="-34308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343080" indent="-3430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3" marL="343080" indent="-34308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4" marL="343080" indent="-34308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5" marL="343080" indent="-34308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6" marL="343080" indent="-34308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90720" y="5407200"/>
            <a:ext cx="817704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body"/>
          </p:nvPr>
        </p:nvSpPr>
        <p:spPr>
          <a:xfrm>
            <a:off x="990720" y="3924360"/>
            <a:ext cx="8177040" cy="3914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343080" indent="-34308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343080" indent="-34308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43080" indent="-34308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343080" indent="-34308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343080" indent="-34308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343080" indent="-34308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title"/>
          </p:nvPr>
        </p:nvSpPr>
        <p:spPr>
          <a:xfrm>
            <a:off x="990720" y="0"/>
            <a:ext cx="8177040" cy="3859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990720" y="142560"/>
            <a:ext cx="8177040" cy="2025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90360" y="-93600"/>
            <a:ext cx="3935160" cy="897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523800" indent="-385560">
              <a:spcBef>
                <a:spcPts val="29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866880" indent="-384120">
              <a:spcBef>
                <a:spcPts val="29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209600" indent="-385560">
              <a:spcBef>
                <a:spcPts val="29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565280" indent="-385920">
              <a:spcBef>
                <a:spcPts val="29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marL="1908000" indent="-384120">
              <a:spcBef>
                <a:spcPts val="29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5" marL="1908000" indent="-384120">
              <a:spcBef>
                <a:spcPts val="29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6" marL="1908000" indent="-384120">
              <a:spcBef>
                <a:spcPts val="29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990720" y="142560"/>
            <a:ext cx="8177040" cy="2025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8177040" cy="641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523800" indent="-385560">
              <a:spcBef>
                <a:spcPts val="29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866880" indent="-384120">
              <a:spcBef>
                <a:spcPts val="29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209600" indent="-385560">
              <a:spcBef>
                <a:spcPts val="29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565280" indent="-385920">
              <a:spcBef>
                <a:spcPts val="29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marL="1908000" indent="-384120">
              <a:spcBef>
                <a:spcPts val="29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5" marL="1908000" indent="-384120">
              <a:spcBef>
                <a:spcPts val="29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6" marL="1908000" indent="-384120">
              <a:spcBef>
                <a:spcPts val="29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990720" y="142560"/>
            <a:ext cx="8177040" cy="2025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070320" y="-1557720"/>
            <a:ext cx="3097080" cy="11899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523800" indent="-385560">
              <a:spcBef>
                <a:spcPts val="29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866880" indent="-384120">
              <a:spcBef>
                <a:spcPts val="29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209600" indent="-385560">
              <a:spcBef>
                <a:spcPts val="29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565280" indent="-385920">
              <a:spcBef>
                <a:spcPts val="29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marL="1908000" indent="-384120">
              <a:spcBef>
                <a:spcPts val="29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5" marL="1908000" indent="-384120">
              <a:spcBef>
                <a:spcPts val="29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6" marL="1908000" indent="-384120">
              <a:spcBef>
                <a:spcPts val="29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body"/>
          </p:nvPr>
        </p:nvSpPr>
        <p:spPr>
          <a:xfrm>
            <a:off x="990360" y="-93600"/>
            <a:ext cx="3935160" cy="897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523800" indent="-385560">
              <a:spcBef>
                <a:spcPts val="29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866880" indent="-384120">
              <a:spcBef>
                <a:spcPts val="29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209600" indent="-385560">
              <a:spcBef>
                <a:spcPts val="29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565280" indent="-385920">
              <a:spcBef>
                <a:spcPts val="29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marL="1908000" indent="-384120">
              <a:spcBef>
                <a:spcPts val="29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5" marL="1908000" indent="-384120">
              <a:spcBef>
                <a:spcPts val="29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6" marL="1908000" indent="-384120">
              <a:spcBef>
                <a:spcPts val="29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title"/>
          </p:nvPr>
        </p:nvSpPr>
        <p:spPr>
          <a:xfrm>
            <a:off x="990720" y="142560"/>
            <a:ext cx="8177040" cy="2025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5407200"/>
            <a:ext cx="8177040" cy="202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1000"/>
          </a:bodyPr>
          <a:p>
            <a:pPr marL="3121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marL="312120" indent="-3121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marL="312120" indent="-3121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marL="312120" indent="-3121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marL="312120" indent="-3121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marL="312120" indent="-3121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marL="312120" indent="-3121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3160" cy="403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1000"/>
          </a:bodyPr>
          <a:p>
            <a:pPr marL="3121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marL="312120" indent="-3121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marL="312120" indent="-3121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marL="312120" indent="-3121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marL="312120" indent="-3121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marL="312120" indent="-3121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marL="312120" indent="-3121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95000" y="0"/>
            <a:ext cx="4583160" cy="36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42560"/>
            <a:ext cx="8177040" cy="2025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720" y="142560"/>
            <a:ext cx="8177040" cy="2025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90360" y="-93600"/>
            <a:ext cx="3935160" cy="897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523800" indent="-3855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41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209600" indent="-3855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565280" indent="-3859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908000" indent="-3841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908000" indent="-384120">
              <a:spcBef>
                <a:spcPts val="29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908000" indent="-384120">
              <a:spcBef>
                <a:spcPts val="29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720" y="142560"/>
            <a:ext cx="8177040" cy="2025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8177040" cy="641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523800" indent="-3855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41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209600" indent="-3855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565280" indent="-3859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908000" indent="-3841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908000" indent="-384120">
              <a:spcBef>
                <a:spcPts val="29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908000" indent="-384120">
              <a:spcBef>
                <a:spcPts val="29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95360" y="-360"/>
            <a:ext cx="9383760" cy="16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dcc"/>
                </a:solidFill>
                <a:latin typeface="Arial"/>
                <a:ea typeface="Arial"/>
              </a:rPr>
              <a:t>Intro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0" y="2135160"/>
            <a:ext cx="10158480" cy="5486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349280" indent="-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1587600"/>
                <a:tab algn="l" pos="2502000"/>
                <a:tab algn="l" pos="3416400"/>
                <a:tab algn="l" pos="4330800"/>
                <a:tab algn="l" pos="5245200"/>
                <a:tab algn="l" pos="6159600"/>
                <a:tab algn="l" pos="7074000"/>
                <a:tab algn="l" pos="7988400"/>
                <a:tab algn="l" pos="8902800"/>
                <a:tab algn="l" pos="9817200"/>
                <a:tab algn="l" pos="10731600"/>
                <a:tab algn="l" pos="109728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7000 mile route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marL="1349280" indent="-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1587600"/>
                <a:tab algn="l" pos="2502000"/>
                <a:tab algn="l" pos="3416400"/>
                <a:tab algn="l" pos="4330800"/>
                <a:tab algn="l" pos="5245200"/>
                <a:tab algn="l" pos="6159600"/>
                <a:tab algn="l" pos="7074000"/>
                <a:tab algn="l" pos="7988400"/>
                <a:tab algn="l" pos="8902800"/>
                <a:tab algn="l" pos="9817200"/>
                <a:tab algn="l" pos="10731600"/>
                <a:tab algn="l" pos="109728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Through China, Central Asia, Northern India, and the Roman Empire.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marL="1349280" indent="-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1587600"/>
                <a:tab algn="l" pos="2502000"/>
                <a:tab algn="l" pos="3416400"/>
                <a:tab algn="l" pos="4330800"/>
                <a:tab algn="l" pos="5245200"/>
                <a:tab algn="l" pos="6159600"/>
                <a:tab algn="l" pos="7074000"/>
                <a:tab algn="l" pos="7988400"/>
                <a:tab algn="l" pos="8902800"/>
                <a:tab algn="l" pos="9817200"/>
                <a:tab algn="l" pos="10731600"/>
                <a:tab algn="l" pos="109728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Connects the Yellow River to the Mediterranean Sea and beyond.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95360" y="306360"/>
            <a:ext cx="9663120" cy="2286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dcc"/>
                </a:solidFill>
                <a:latin typeface="Arial"/>
                <a:ea typeface="Arial"/>
              </a:rPr>
              <a:t>The Silk Road: Linking Europe and Asia Through Trade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23760" y="2135160"/>
            <a:ext cx="10158480" cy="6027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349280" indent="-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1587600"/>
                <a:tab algn="l" pos="2502000"/>
                <a:tab algn="l" pos="3416400"/>
                <a:tab algn="l" pos="4330800"/>
                <a:tab algn="l" pos="5245200"/>
                <a:tab algn="l" pos="6159600"/>
                <a:tab algn="l" pos="7074000"/>
                <a:tab algn="l" pos="7988400"/>
                <a:tab algn="l" pos="8902800"/>
                <a:tab algn="l" pos="9817200"/>
                <a:tab algn="l" pos="10731600"/>
                <a:tab algn="l" pos="109728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Arial"/>
              </a:rPr>
              <a:t>The Silk Road is the most well-known trading route of ancient Chinese civilization. 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  <a:p>
            <a:pPr marL="1349280" indent="-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1587600"/>
                <a:tab algn="l" pos="2502000"/>
                <a:tab algn="l" pos="3416400"/>
                <a:tab algn="l" pos="4330800"/>
                <a:tab algn="l" pos="5245200"/>
                <a:tab algn="l" pos="6159600"/>
                <a:tab algn="l" pos="7074000"/>
                <a:tab algn="l" pos="7988400"/>
                <a:tab algn="l" pos="8902800"/>
                <a:tab algn="l" pos="9817200"/>
                <a:tab algn="l" pos="10731600"/>
                <a:tab algn="l" pos="109728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Arial"/>
              </a:rPr>
              <a:t>Trade in silk grew under the Han Dynasty  ( 202 BC - 220AD ) 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  <a:p>
            <a:pPr marL="1349280" indent="-457200" algn="ctr">
              <a:lnSpc>
                <a:spcPct val="100000"/>
              </a:lnSpc>
              <a:tabLst>
                <a:tab algn="l" pos="0"/>
                <a:tab algn="l" pos="1587600"/>
                <a:tab algn="l" pos="2502000"/>
                <a:tab algn="l" pos="3416400"/>
                <a:tab algn="l" pos="4330800"/>
                <a:tab algn="l" pos="5245200"/>
                <a:tab algn="l" pos="6159600"/>
                <a:tab algn="l" pos="7074000"/>
                <a:tab algn="l" pos="7988400"/>
                <a:tab algn="l" pos="8902800"/>
                <a:tab algn="l" pos="9817200"/>
                <a:tab algn="l" pos="10731600"/>
                <a:tab algn="l" pos="109728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277920" y="153720"/>
            <a:ext cx="9664560" cy="190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dcc"/>
                </a:solidFill>
                <a:latin typeface="Arial"/>
                <a:ea typeface="Arial"/>
              </a:rPr>
              <a:t>Why The Silk Road?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404640" y="1449000"/>
            <a:ext cx="9753840" cy="6561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349280" indent="-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1587600"/>
                <a:tab algn="l" pos="2502000"/>
                <a:tab algn="l" pos="3416400"/>
                <a:tab algn="l" pos="4330800"/>
                <a:tab algn="l" pos="5245200"/>
                <a:tab algn="l" pos="6159600"/>
                <a:tab algn="l" pos="7074000"/>
                <a:tab algn="l" pos="7988400"/>
                <a:tab algn="l" pos="8902800"/>
                <a:tab algn="l" pos="9817200"/>
                <a:tab algn="l" pos="107316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4800" spc="-1" strike="noStrike">
                <a:solidFill>
                  <a:srgbClr val="333399"/>
                </a:solidFill>
                <a:latin typeface="Arial"/>
                <a:ea typeface="Arial"/>
              </a:rPr>
              <a:t>Caravans from the empire's cities would carry silk to the western edges of the region. 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marL="1349280" indent="-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1587600"/>
                <a:tab algn="l" pos="2502000"/>
                <a:tab algn="l" pos="3416400"/>
                <a:tab algn="l" pos="4330800"/>
                <a:tab algn="l" pos="5245200"/>
                <a:tab algn="l" pos="6159600"/>
                <a:tab algn="l" pos="7074000"/>
                <a:tab algn="l" pos="7988400"/>
                <a:tab algn="l" pos="8902800"/>
                <a:tab algn="l" pos="9817200"/>
                <a:tab algn="l" pos="107316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  <a:ea typeface="Arial"/>
              </a:rPr>
              <a:t>Central Asian tribes would attack these caravans hoping to capture the traders' valuable goods. 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marL="1349280" indent="-457200" algn="ctr">
              <a:lnSpc>
                <a:spcPct val="100000"/>
              </a:lnSpc>
              <a:tabLst>
                <a:tab algn="l" pos="0"/>
                <a:tab algn="l" pos="1587600"/>
                <a:tab algn="l" pos="2502000"/>
                <a:tab algn="l" pos="3416400"/>
                <a:tab algn="l" pos="4330800"/>
                <a:tab algn="l" pos="5245200"/>
                <a:tab algn="l" pos="6159600"/>
                <a:tab algn="l" pos="7074000"/>
                <a:tab algn="l" pos="7988400"/>
                <a:tab algn="l" pos="8902800"/>
                <a:tab algn="l" pos="9817200"/>
                <a:tab algn="l" pos="107316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817884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61704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e Silk Road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47" name="Picture 2" descr=""/>
          <p:cNvPicPr/>
          <p:nvPr/>
        </p:nvPicPr>
        <p:blipFill>
          <a:blip r:embed="rId1"/>
          <a:stretch/>
        </p:blipFill>
        <p:spPr>
          <a:xfrm>
            <a:off x="-179280" y="0"/>
            <a:ext cx="10337760" cy="762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0" y="-648000"/>
            <a:ext cx="10158480" cy="2020680"/>
          </a:xfrm>
          <a:prstGeom prst="rect">
            <a:avLst/>
          </a:prstGeom>
          <a:noFill/>
          <a:ln w="0">
            <a:noFill/>
          </a:ln>
        </p:spPr>
        <p:txBody>
          <a:bodyPr lIns="38160" rIns="617040" tIns="38160" bIns="381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dcc"/>
                </a:solidFill>
                <a:latin typeface="Arial"/>
                <a:ea typeface="Arial"/>
              </a:rPr>
              <a:t>The Decline of the Silk Road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27000" y="1296720"/>
            <a:ext cx="10158480" cy="7086600"/>
          </a:xfrm>
          <a:prstGeom prst="rect">
            <a:avLst/>
          </a:prstGeom>
          <a:noFill/>
          <a:ln w="0">
            <a:noFill/>
          </a:ln>
        </p:spPr>
        <p:txBody>
          <a:bodyPr lIns="38160" rIns="617040" tIns="38160" bIns="38160" anchor="t">
            <a:normAutofit/>
          </a:bodyPr>
          <a:p>
            <a:pPr marL="1577880" indent="-6858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1587600"/>
                <a:tab algn="l" pos="2502000"/>
                <a:tab algn="l" pos="3416400"/>
                <a:tab algn="l" pos="4330800"/>
                <a:tab algn="l" pos="5245200"/>
                <a:tab algn="l" pos="6159600"/>
                <a:tab algn="l" pos="7074000"/>
                <a:tab algn="l" pos="7988400"/>
                <a:tab algn="l" pos="8902800"/>
                <a:tab algn="l" pos="9817200"/>
                <a:tab algn="l" pos="107316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  <a:ea typeface="Arial"/>
              </a:rPr>
              <a:t>As overland trade became increasingly dangerous, and overseas trade became more popular, trade along the Silk Road declined. 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marL="1577880" indent="-6858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1587600"/>
                <a:tab algn="l" pos="2502000"/>
                <a:tab algn="l" pos="3416400"/>
                <a:tab algn="l" pos="4330800"/>
                <a:tab algn="l" pos="5245200"/>
                <a:tab algn="l" pos="6159600"/>
                <a:tab algn="l" pos="7074000"/>
                <a:tab algn="l" pos="7988400"/>
                <a:tab algn="l" pos="8902800"/>
                <a:tab algn="l" pos="9817200"/>
                <a:tab algn="l" pos="107316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  <a:ea typeface="Arial"/>
              </a:rPr>
              <a:t>At the end of the fourteenth century, trade along the road had decreased. 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yler Daughtry</dc:creator>
  <dc:description/>
  <dc:language>en-US</dc:language>
  <cp:lastModifiedBy>Tyler Daughtry</cp:lastModifiedBy>
  <dcterms:modified xsi:type="dcterms:W3CDTF">2013-11-19T20:07:01Z</dcterms:modified>
  <cp:revision>3</cp:revision>
  <dc:subject/>
  <dc:title>Intro</dc:title>
</cp:coreProperties>
</file>